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218D-EC95-4DF6-A2FA-2E2D8794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9CD1C-6EDF-4DE8-BF92-174184B0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FECBB-15C6-41A4-AA43-D465C3AF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5E1D8-0883-40E0-9390-D6993CEC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2618-B0C6-4FD8-AB87-F3C800DF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690E-BAA9-4202-9B87-A25B213A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3B0E-E5BD-4057-82C9-84826602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5650-ADEF-4926-8E71-0592C500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29FF-416C-46B7-9995-200E5831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2AD5-2BD3-4213-AFDD-0FD398DE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5BC8-FD14-4817-A410-6F85A215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44C9D-7C50-44BC-A20F-4415DB98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7CCB-2C8D-4C41-985A-DD944A27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5F48-01CE-4E2B-B046-62528882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79FE-49D3-4DEF-9D36-1A90BE2B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6BA5-1260-405E-9CD9-C7263DBF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824F-BC8E-424F-B14A-D0167FE4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687CA-515B-42DE-B4CE-D3E3AA8F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9EE9-71B6-4EB4-BBF5-80AE1F5D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ACFDB-6FBF-4BDC-AFA5-D02D5A33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EF3A-4BA3-41C9-AE7E-7D7CF57F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6E4B-72E1-452A-BCA1-312ED4F3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DC67-D53E-4FBC-ACF3-2BD593F0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1682-BC79-4E03-BEF4-012C15D7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0B2C-C849-4FDE-B015-4E7613B50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90F5-86FD-49E8-B243-35DD80455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gram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004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ing a Column Trans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have a good estimate for the size of a column transposition you need to discover the correct arrangement of colum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ool that may help in this process in the Anagram tool provided by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lows you to try to arrange the columns to produc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ce to begin is to look for rows that have letters that commonly belong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B187-1785-45EC-A9CF-2846EA1CFF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215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ossible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1D13-7857-4010-BC52-C1A33E2504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85F7-CA67-48FE-90D8-BD8C51C251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iban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801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ther possible letter pairs the Centiban table could be help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 government studied a set of 5,000 digrams and produced a table of what are called centiban we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ble contains the logarithm of twice the frequency of each di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87520" y="3305160"/>
            <a:ext cx="676440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 B   C   D   E   F   G   H   I   J   K   L   M   N   O   P   Q   R   S   T   U   V   W   X   Y  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33  45  61  73  13  38  45  25  64  13  25  76  61  89  25  58  00  82  80  83  59  48  33  00  58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B  38  00  00  00  66  00  00  00  25  13  00  45  13  00  38  00  00  25  13  13  25  00  00  00  48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C  67  00  33  13  76  13  00  61  48  00  38  42  13  13  80  00  00  38  13  61  38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D  76  38  38  51  77  51  25  25  73  13  00  33  42  38  63  42  25  58  59  62  42  3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E  78  38  76  88  81  66  38  48  73  13  00  74  61  99  58  67  58  94  86  79  33  67  48  48  38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F  42  00  25  13  55  56  13  00  80  00  00  25  13  00  80  13  00  53  33  56  33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G  48  00  25  13  61  25  13  67  42  13  00  25  13  33  45  25  00  42  33  38  25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H  67  13  33  25  67  42  00  00  77  00  00  13  25  33  67  13  13  64  38  74  51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I  51  25  69  45  59  55  67  00  00  00  25  70  53  92  80  48  00  73  78  73  00  72  00  62  00 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J  18  00  00  00  25  00  00  00  00  00  00  00  00  00  25  00  00  00  00  00  25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K  13  00  13  00  45  00  00  00  25  00  00  13  00  13  00  00  00  00  13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L  74  33  33  53  79  33  13  13  67  00  00  73  25  13  59  33  00  25  45  51  25  25  25  00  5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M  78  45  33  13  72  13  00  13  53  00  00  00  59  00  55  51  00  25  38  25  25  00  00  00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N  72  25  67  85  87  53  73  38  75  13  25  42  42  51  66  33  13  38  71  93  48  33  33  00  42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O  48  38  51  58  33  72  25  33  42  13  25  67  72  92  45  72  00  89  61  67  79  48  51  13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P  61  13  13  13  70  25  00  33  45  00  00  59  38  13  64  56  00  66  45  51  33  13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Q  00  00  00  00  00  00  00  00  00  00  00  00  13  00  00  00  00  13  00  00  62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R  80  25  53  64  96  45  48  33  75  13  13  42  53  48  74  59  00  56  75  81  42  42  38  00  5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S  71  33  59  42  84  58  25  72  77  00  13  25  33  38  62  55  00  42  67  88  56  1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T  74  33  45  45  91  48  13  92  82  00  00  42  45  48  84  25  13  64  67  67  42  00  78  00  80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U  42  33  33  33  56  13  51  00  42  00  00  45  42  68  13  25  00  75  58  58  00  13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V  45  00  00  00  87  00  00  00  58  00  00  00  00  00  13  00  00  00  00  13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W  58  00  00  00  69  00  00  38  59  00  00  13  00  25  67  00  00  13  13  00  00  00  00  00  13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X  25  00  25  13  13  13  00  13  25  00  00  00  00  13  13  25  00  13  13  48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Y  45  25  38  38  53  56  13  13  33  00  00  25  25  45  55  33  00  38  56  62  13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Z  13  00  00  00  25  00  00  00  13  00  00  00  00  00  00  00  00  00  00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6360" y="296532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econd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57040" y="3254400"/>
            <a:ext cx="3214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1800" y="244332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higher the score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more likely the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wo letter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a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DE42-4950-4EFE-AF57-8D33720D4D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2T08:15:24Z</dcterms:modified>
  <cp:revision>47</cp:revision>
  <dc:subject/>
  <dc:title>CAP Cryptographic Analysis Program</dc:title>
</cp:coreProperties>
</file>